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93B4DC9-11C0-42FE-B576-621A2EFA53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ll text searching in combination with other parameters makes finding papers much eas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ither ‘circadian rhythm’ nor ‘photomorphogenesis’ is in title or abstract, they are in the full text.  This is a powerful way to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C27F-A3A6-4C4A-976C-5EA441EF0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7812-57C6-4040-8442-3DAF062DE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806C-96BE-4F49-AC70-F6FFA46FC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7F99-155E-4961-9ADB-9E274F826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9486-F5ED-4E36-8BB9-AFE50225B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E40D-AC17-440F-9638-6F2536C28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D0F6-CE33-42E2-8F4B-ECA4201BE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0CDA-0968-4086-831D-4B1D65072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FF6E-0C78-47D1-B3D6-6C7A37E4C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6AB1-187A-4EEB-A0A7-E681080AA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5E82-5155-49ED-81DF-59D80254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A525-C7AF-4E8B-860D-778E4E1C3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AEC95-7D53-4214-9F1D-ABBAEA5D32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b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50288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nny Yoo, Iris Xu, Behzad Mahi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2209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ub* Tools Websi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http://pubsearch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terature Curaotors’ Websi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http://biocurator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629080" y="2085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tair-lit-curation" descr=""/>
          <p:cNvPicPr/>
          <p:nvPr/>
        </p:nvPicPr>
        <p:blipFill>
          <a:blip r:embed="rId1"/>
          <a:srcRect l="6148" t="6381" r="37136" b="41306"/>
          <a:stretch/>
        </p:blipFill>
        <p:spPr>
          <a:xfrm>
            <a:off x="152280" y="746280"/>
            <a:ext cx="8839440" cy="6111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986120" y="90360"/>
            <a:ext cx="517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ubSesarch System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8600" y="4495680"/>
            <a:ext cx="236232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bject ter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119640" y="4495680"/>
            <a:ext cx="2743200" cy="53352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bject ter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00400" y="5943600"/>
            <a:ext cx="24382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p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" name=""/>
          <p:cNvCxnSpPr>
            <a:stCxn id="70" idx="2"/>
            <a:endCxn id="72" idx="1"/>
          </p:cNvCxnSpPr>
          <p:nvPr/>
        </p:nvCxnSpPr>
        <p:spPr>
          <a:xfrm flipH="1" rot="16200000">
            <a:off x="1676160" y="4762080"/>
            <a:ext cx="125820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71" idx="2"/>
            <a:endCxn id="72" idx="3"/>
          </p:cNvCxnSpPr>
          <p:nvPr/>
        </p:nvCxnSpPr>
        <p:spPr>
          <a:xfrm rot="5400000">
            <a:off x="5935680" y="4731480"/>
            <a:ext cx="1258200" cy="1853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70" idx="3"/>
            <a:endCxn id="71" idx="1"/>
          </p:cNvCxnSpPr>
          <p:nvPr/>
        </p:nvCxnSpPr>
        <p:spPr>
          <a:xfrm>
            <a:off x="2590920" y="4762080"/>
            <a:ext cx="35294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3504600" y="692280"/>
            <a:ext cx="18525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s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olved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s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ed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subuni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ed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d f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ed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acts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ul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1680" y="3962520"/>
            <a:ext cx="22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lecular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3597120"/>
            <a:ext cx="295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lecular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ptive vocabul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06360" y="76320"/>
            <a:ext cx="675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derlying Logic of PubSearch D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37720" y="5486400"/>
            <a:ext cx="118368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autom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933960" y="5410080"/>
            <a:ext cx="118368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autom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733920" y="4876920"/>
            <a:ext cx="93060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man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Recently Added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 installation package (0.5) that includes Java Swing-based installer, bulk XML loaders for CVs, articles, and genes, stand-alone db schema, sampl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ified user interfaces and rehauled underlying software (Java classes and servlets) for sear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-text search engine (Apache’s Lucene eng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ele, germplasm, and phenotype cura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agate annota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0 new relationship types (now ~30 in total) handling Gene-to-Gene and Gene-to-Term annot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 protein modified with, has protein-RNA interaction wi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ic schema implemented in MySQL4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ts of bug fixes, code-clean up, and unit t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bSearch Usage at TAI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ation of data objects from the liter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ation done in data-object centric man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 data objects handled: genes (at the transcript level), </a:t>
            </a:r>
            <a:r>
              <a:rPr b="0" lang="en-US" sz="3200" spc="-1" strike="noStrike">
                <a:solidFill>
                  <a:srgbClr val="808080"/>
                </a:solidFill>
                <a:latin typeface="Times New Roman"/>
              </a:rPr>
              <a:t>alleles, germplas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 relationships handled: gene2term, gene2g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ation of new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ation of pap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AIR Installation Statistics (9/12/0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38224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,272 literature re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4,920 research papers with abstra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,642 full-text papers (58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,956 controlled vocabulary t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5,671 hits between terms and articles (2359 ter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8,010 gene n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9,841 hits between genes and articles (4268 gen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4,943 hits validat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70% valid, 29% not valid, 0.5% mayb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,497 manual annotations to 5981 genes from 2113 arti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8 relationship types for gene2term and gene2g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3 evidence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1981080" y="304920"/>
          <a:ext cx="5067360" cy="6248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04920"/>
                    <a:ext cx="5067360" cy="62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bSearch Status from RG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alled on Mac OS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s, Literature loaded from RG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ghlighted certain dependencies on TAIR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generic loading scripts developed by TA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t generation between articles and ontology terms (GO) functioning, still resolving Gene-Article matching and certain user interface issues related to loading non-TAIR da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coming work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ing new Generic PubSearch and loading scripts then testing with RGD curation staf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nect PubFetch BioMOBY webservice to PubSe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 PubSearch on Ora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1295280" y="0"/>
            <a:ext cx="6629400" cy="6857640"/>
            <a:chOff x="1295280" y="0"/>
            <a:chExt cx="6629400" cy="6857640"/>
          </a:xfrm>
        </p:grpSpPr>
        <p:pic>
          <p:nvPicPr>
            <p:cNvPr id="94" name="" descr=""/>
            <p:cNvPicPr/>
            <p:nvPr/>
          </p:nvPicPr>
          <p:blipFill>
            <a:blip r:embed="rId1"/>
            <a:srcRect l="16876" t="5001" r="19376" b="8332"/>
            <a:stretch/>
          </p:blipFill>
          <p:spPr>
            <a:xfrm>
              <a:off x="1295280" y="0"/>
              <a:ext cx="6629400" cy="614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" descr=""/>
            <p:cNvPicPr/>
            <p:nvPr/>
          </p:nvPicPr>
          <p:blipFill>
            <a:blip r:embed="rId2"/>
            <a:srcRect l="16876" t="74169" r="19376" b="11667"/>
            <a:stretch/>
          </p:blipFill>
          <p:spPr>
            <a:xfrm>
              <a:off x="1295280" y="5852880"/>
              <a:ext cx="6629400" cy="1004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rcRect l="16876" t="7501" r="13749" b="10832"/>
          <a:stretch/>
        </p:blipFill>
        <p:spPr>
          <a:xfrm>
            <a:off x="1066680" y="333360"/>
            <a:ext cx="7391520" cy="6524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066680" y="2362320"/>
            <a:ext cx="2514600" cy="45720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05120" y="4114800"/>
            <a:ext cx="2133360" cy="45720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rcRect l="16876" t="14998" r="13749" b="14168"/>
          <a:stretch/>
        </p:blipFill>
        <p:spPr>
          <a:xfrm>
            <a:off x="380880" y="228600"/>
            <a:ext cx="8458200" cy="64771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095880" y="1371600"/>
            <a:ext cx="838440" cy="38088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terature Cu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turing biological information and knowledge from the literature into datab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model organism databases do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-consuming and susceptible to inconsist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come more and more necessary as the amount of computationally derived information increases (more need for bench-mark inform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1295280" y="0"/>
            <a:ext cx="6248520" cy="6857640"/>
            <a:chOff x="1295280" y="0"/>
            <a:chExt cx="6248520" cy="6857640"/>
          </a:xfrm>
        </p:grpSpPr>
        <p:pic>
          <p:nvPicPr>
            <p:cNvPr id="102" name="" descr=""/>
            <p:cNvPicPr/>
            <p:nvPr/>
          </p:nvPicPr>
          <p:blipFill>
            <a:blip r:embed="rId1">
              <a:lum bright="-6000"/>
            </a:blip>
            <a:srcRect l="16876" t="5001" r="19376" b="10832"/>
            <a:stretch/>
          </p:blipFill>
          <p:spPr>
            <a:xfrm>
              <a:off x="1295280" y="0"/>
              <a:ext cx="6248520" cy="649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2">
              <a:lum bright="-6000"/>
            </a:blip>
            <a:srcRect l="16876" t="60836" r="19376" b="34529"/>
            <a:stretch/>
          </p:blipFill>
          <p:spPr>
            <a:xfrm>
              <a:off x="1295280" y="6499440"/>
              <a:ext cx="6248520" cy="358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rcRect l="16876" t="8332" r="20625" b="16668"/>
          <a:stretch/>
        </p:blipFill>
        <p:spPr>
          <a:xfrm>
            <a:off x="533520" y="0"/>
            <a:ext cx="7619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16876" t="0" r="28127" b="8332"/>
          <a:stretch/>
        </p:blipFill>
        <p:spPr>
          <a:xfrm>
            <a:off x="1752480" y="0"/>
            <a:ext cx="5486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rcRect l="16876" t="0" r="19999" b="12502"/>
          <a:stretch/>
        </p:blipFill>
        <p:spPr>
          <a:xfrm>
            <a:off x="838080" y="0"/>
            <a:ext cx="659628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 flipH="1" flipV="1">
            <a:off x="4266720" y="3428640"/>
            <a:ext cx="304920" cy="15228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rcRect l="0" t="17503" r="13749" b="19168"/>
          <a:stretch/>
        </p:blipFill>
        <p:spPr>
          <a:xfrm>
            <a:off x="0" y="914400"/>
            <a:ext cx="8991720" cy="4952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200400" y="3124080"/>
            <a:ext cx="914400" cy="228600"/>
          </a:xfrm>
          <a:prstGeom prst="ellips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0" t="0" r="42502" b="27500"/>
          <a:stretch/>
        </p:blipFill>
        <p:spPr>
          <a:xfrm>
            <a:off x="990720" y="76320"/>
            <a:ext cx="7010280" cy="66294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flipH="1" flipV="1">
            <a:off x="5562720" y="3657240"/>
            <a:ext cx="380880" cy="22860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rcRect l="16876" t="0" r="19999" b="10832"/>
          <a:stretch/>
        </p:blipFill>
        <p:spPr>
          <a:xfrm>
            <a:off x="990720" y="0"/>
            <a:ext cx="6473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610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e software to the generic_pub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grate DB to PostgreSQ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 HistoryTrac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B Admin Web User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 compound annotation function (using multiple term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stigate approximate searching for term-article hit gen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3733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gramm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is X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nny Y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hzad Mah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 Hua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kas Mue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onore Rei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ifen Zh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a Garcia-Hernand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nya Berard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arna Mundo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ck Moseyk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andon Zoeck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bmas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lie Tackl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27880" y="762120"/>
            <a:ext cx="3334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GD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on Twig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ing 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jay Narayanasa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an Brombe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ie de la Cruz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Literature Curation Use C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relevant papers according to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papers according to X (primary tri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relevant data to curate in a pa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relevant papers to curator for a data object (e.g. ge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genes that are described in new papers since the last c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he status of a paper or a gene in the curation pip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marize the description of biological object X from a list of papers that describe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ociate to relevant attributes of object X from a list of papers that describe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ociate relevant database objects and their attributes from paper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Literature Curation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lot of pap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pers outside the domain of expertise of a cu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dly written papers and bad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cy and transparency of annotation methods/rules/guidel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1562" t="14584" r="14844" b="3125"/>
          <a:stretch/>
        </p:blipFill>
        <p:spPr>
          <a:xfrm>
            <a:off x="457200" y="762120"/>
            <a:ext cx="8153280" cy="60195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19920" y="166680"/>
            <a:ext cx="79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terature Curaotors’ Websi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http://biocurator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80880" y="0"/>
            <a:ext cx="8610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Literature Curation Meeting!!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121932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day-Tuesday,October 27-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 Genome Database, Milwaukee, W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Topics for Discu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ty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ty input to c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ion/effici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rporation of sequence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orit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al curation - e.g., gene families, splice vari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mencl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ation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more information go to bioucurator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email sbromber@mcw.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b Su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Search is part of the Pub Suite of prog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Fetch for literature download (RG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Search for literature annotation (TAI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Track for curation tracking (RG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3127" t="14584" r="25782" b="3125"/>
          <a:stretch/>
        </p:blipFill>
        <p:spPr>
          <a:xfrm>
            <a:off x="1066680" y="762120"/>
            <a:ext cx="6934320" cy="60195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448280" y="166680"/>
            <a:ext cx="624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ub* Tools Websi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http://pubsearch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PubSearch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610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web application and database for literature cu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res complete literature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ences, abstracts, full text articles (pd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res biological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s, proteins, descri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res ontologies (GO Ter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ks literature, GO terms and biological inform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sts manual curation with fast, automatic matching (using suffix trees indic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password-protected, and easy to set up and 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00:02:11Z</dcterms:created>
  <dc:creator>bmahini</dc:creator>
  <dc:description/>
  <dc:language>en-US</dc:language>
  <cp:lastModifiedBy>rhee</cp:lastModifiedBy>
  <dcterms:modified xsi:type="dcterms:W3CDTF">2003-09-16T13:46:02Z</dcterms:modified>
  <cp:revision>30</cp:revision>
  <dc:subject/>
  <dc:title>PubSearch</dc:title>
</cp:coreProperties>
</file>